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2.png" ContentType="image/png"/>
  <Override PartName="/ppt/media/image2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4ED-55EC-49D4-A6F0-3C52560D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F0C-5615-4BC2-8A9D-4561117B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C87-4A2E-4406-A1C5-B8176827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92A-1CE9-4C9D-BF6B-E7D197EF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D4A-A8AF-417A-B01B-1DAAAEFF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1BF-71E1-4CB8-9297-67D574DB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CA8-AE6A-4505-B220-1015BBD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8B8-8F21-4311-A322-B604BF25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BF2-C962-4BC0-97E6-D6667E0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122-6C2B-4316-9F5B-6C1641D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BE7-3466-4B2A-9B94-46A1C7BB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6C5-09FA-421F-A6DB-A82434F3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2BB9A-8E3D-456A-8B43-7BF4ECA74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78040" y="2055960"/>
            <a:ext cx="724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и музыка в числ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66840" y="808920"/>
            <a:ext cx="46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й №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034680" y="4510440"/>
            <a:ext cx="227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4 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Лицей №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ев Или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кова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133160" y="63219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7" descr=""/>
          <p:cNvPicPr/>
          <p:nvPr/>
        </p:nvPicPr>
        <p:blipFill>
          <a:blip r:embed="rId1"/>
          <a:stretch/>
        </p:blipFill>
        <p:spPr>
          <a:xfrm>
            <a:off x="1541520" y="3808440"/>
            <a:ext cx="2063520" cy="1390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"/>
          <p:cNvPicPr/>
          <p:nvPr/>
        </p:nvPicPr>
        <p:blipFill>
          <a:blip r:embed="rId2"/>
          <a:stretch/>
        </p:blipFill>
        <p:spPr>
          <a:xfrm>
            <a:off x="1116000" y="5149800"/>
            <a:ext cx="2784600" cy="11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Диаграмма 7" descr=""/>
          <p:cNvPicPr/>
          <p:nvPr/>
        </p:nvPicPr>
        <p:blipFill>
          <a:blip r:embed="rId1"/>
          <a:stretch/>
        </p:blipFill>
        <p:spPr>
          <a:xfrm>
            <a:off x="317520" y="1238400"/>
            <a:ext cx="3968640" cy="45464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55640" y="1159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е дат рож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ов 4 «Б» и 5 «Б»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4356000" y="1413000"/>
            <a:ext cx="464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анкетировании приняли участ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 класса по 24 уче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304920" y="5950080"/>
            <a:ext cx="853416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мы установили, что даты рождения можно переложить на ноты и установить их связь со способностями лич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0"/>
          <p:cNvSpPr/>
          <p:nvPr/>
        </p:nvSpPr>
        <p:spPr>
          <a:xfrm>
            <a:off x="4560840" y="2305080"/>
            <a:ext cx="431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и уче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«Б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обладают даты рождения с «мелодичным» звучанием (15 человек - 62,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«Б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е учеников с резким, не приятным звучанием (18 человек – 7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8" descr=""/>
          <p:cNvPicPr/>
          <p:nvPr/>
        </p:nvPicPr>
        <p:blipFill>
          <a:blip r:embed="rId1"/>
          <a:stretch/>
        </p:blipFill>
        <p:spPr>
          <a:xfrm>
            <a:off x="6962760" y="4211640"/>
            <a:ext cx="2077920" cy="263700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0" descr=""/>
          <p:cNvPicPr/>
          <p:nvPr/>
        </p:nvPicPr>
        <p:blipFill>
          <a:blip r:embed="rId2"/>
          <a:stretch/>
        </p:blipFill>
        <p:spPr>
          <a:xfrm>
            <a:off x="22320" y="4221000"/>
            <a:ext cx="1977840" cy="2637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" descr=""/>
          <p:cNvPicPr/>
          <p:nvPr/>
        </p:nvPicPr>
        <p:blipFill>
          <a:blip r:embed="rId3"/>
          <a:stretch/>
        </p:blipFill>
        <p:spPr>
          <a:xfrm>
            <a:off x="2268360" y="4211640"/>
            <a:ext cx="4434120" cy="26463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"/>
          <p:cNvPicPr/>
          <p:nvPr/>
        </p:nvPicPr>
        <p:blipFill>
          <a:blip r:embed="rId4"/>
          <a:stretch/>
        </p:blipFill>
        <p:spPr>
          <a:xfrm>
            <a:off x="6470640" y="52560"/>
            <a:ext cx="2614680" cy="1855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58680" y="66600"/>
            <a:ext cx="631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астер-клас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Магия чисел и музык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6" descr=""/>
          <p:cNvPicPr/>
          <p:nvPr/>
        </p:nvPicPr>
        <p:blipFill>
          <a:blip r:embed="rId5"/>
          <a:stretch/>
        </p:blipFill>
        <p:spPr>
          <a:xfrm>
            <a:off x="7016760" y="1965240"/>
            <a:ext cx="203976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5" descr=""/>
          <p:cNvPicPr/>
          <p:nvPr/>
        </p:nvPicPr>
        <p:blipFill>
          <a:blip r:embed="rId6"/>
          <a:stretch/>
        </p:blipFill>
        <p:spPr>
          <a:xfrm>
            <a:off x="243000" y="1333440"/>
            <a:ext cx="1319040" cy="2637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7" name="Прямоугольник 6"/>
          <p:cNvSpPr/>
          <p:nvPr/>
        </p:nvSpPr>
        <p:spPr>
          <a:xfrm>
            <a:off x="1687680" y="1284120"/>
            <a:ext cx="478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Мы создали буклет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 представили изученную информацию и пошаговую инструкцию к определению способности по дате рождения с помощью программы «Онлайн-пианино»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s://jliza.ru/piano-online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1657440" y="3011400"/>
            <a:ext cx="51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Организовали мастер-класс для одноклассников, где каждый смог воспользоваться буклетом и поработать в компьютерной програм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62080" y="620640"/>
            <a:ext cx="87850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ходе работы нам удалось решить следующ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ли литературу, посмотрели видео материалы по теме исследования и убедились, что связь между музыкой и математикой существу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анкетирова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среди учеников 4 и 5 классов и педагогов и получили информацию для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азные способы перевода цифр в ноты, мы установить связь между «звучанием» даты рождения и способностями личности, а также мы открыли для себ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новый способ диагност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разработали буклет «Магия чисел и музыки» и предложили его участникам мастер-кла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данной исследовательской работы достигну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отеза подтвердила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53964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652320" y="378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79280" y="4549680"/>
            <a:ext cx="878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лан И. Я. Мир чисел. М.: «Просвещение»,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унова И.Б., Заливадный М.С., Чибирев С.В. Музыка, математика, информатика: логические, эстетические и технологические аспекты взаимодействия. Монография. СПб.: Изд-во РПГУ им. А.И. Герцена, 201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я для детей. Т. 7. Искусство. Ч. 1. – Э68-е изд., испр./Глав. Ред. М.Д. Аксенова. – М..6 Аванта +, 2006 – 688 с.: и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ческий словарь юного музыканта Э68/сост. В.В. Медушевский, О.О. Очаковская. – М.: Педагогика, 2007. – 352с., и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muz-teoretik.ru/garmonicheskie-i-melodicheskie-intervaly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muz-teoretik.ru/garmonicheskie-i-melodicheskie-intervaly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www.nnov.kp.ru/daily/26898/3942778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1360" y="177120"/>
            <a:ext cx="880128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явление общих элементов и установление связи между музыкой и математ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анализировать литературу и посмотреть видео материалы по данной теме иссле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анкетирование среди учеников 4 и 5 классов и педагог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ложить числа (даты рождения) на музы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становить связь между «звучанием» даты рождения и способностями лич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здать буклет «Магия чисел и музык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сти мастер-класс среди учеников своего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и мате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в музы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ую дату рождения можно переложить на ноты и узнать о предрасположенности человека к точным наукам или 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6630840" y="3141720"/>
            <a:ext cx="1703520" cy="1174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2"/>
          <a:stretch/>
        </p:blipFill>
        <p:spPr>
          <a:xfrm>
            <a:off x="6242040" y="4243320"/>
            <a:ext cx="248112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657600" y="1749600"/>
            <a:ext cx="389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онохор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Рисунок 7" descr=""/>
          <p:cNvPicPr/>
          <p:nvPr/>
        </p:nvPicPr>
        <p:blipFill>
          <a:blip r:embed="rId1"/>
          <a:stretch/>
        </p:blipFill>
        <p:spPr>
          <a:xfrm>
            <a:off x="4240080" y="2971800"/>
            <a:ext cx="3009960" cy="1069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4132440" y="4089240"/>
            <a:ext cx="3520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н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ру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150840" y="2881440"/>
            <a:ext cx="4011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фагор производил опыты на монохорде, изучая соотношение интервалов и длины стру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Копия Пифагор2"/>
          <p:cNvPicPr/>
          <p:nvPr/>
        </p:nvPicPr>
        <p:blipFill>
          <a:blip r:embed="rId2"/>
          <a:stretch/>
        </p:blipFill>
        <p:spPr>
          <a:xfrm>
            <a:off x="7139160" y="1365120"/>
            <a:ext cx="1796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6146"/>
          <p:cNvGrpSpPr/>
          <p:nvPr/>
        </p:nvGrpSpPr>
        <p:grpSpPr>
          <a:xfrm>
            <a:off x="704880" y="5457960"/>
            <a:ext cx="2046240" cy="977400"/>
            <a:chOff x="704880" y="5457960"/>
            <a:chExt cx="2046240" cy="977400"/>
          </a:xfrm>
        </p:grpSpPr>
        <p:grpSp>
          <p:nvGrpSpPr>
            <p:cNvPr id="56" name="Группа 32"/>
            <p:cNvGrpSpPr/>
            <p:nvPr/>
          </p:nvGrpSpPr>
          <p:grpSpPr>
            <a:xfrm>
              <a:off x="704880" y="5862600"/>
              <a:ext cx="2042640" cy="231840"/>
              <a:chOff x="704880" y="5862600"/>
              <a:chExt cx="2042640" cy="231840"/>
            </a:xfrm>
          </p:grpSpPr>
          <p:sp>
            <p:nvSpPr>
              <p:cNvPr id="57" name="Прямая соединительная линия 18"/>
              <p:cNvSpPr/>
              <p:nvPr/>
            </p:nvSpPr>
            <p:spPr>
              <a:xfrm>
                <a:off x="709560" y="5978520"/>
                <a:ext cx="203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Группа 30"/>
              <p:cNvGrpSpPr/>
              <p:nvPr/>
            </p:nvGrpSpPr>
            <p:grpSpPr>
              <a:xfrm>
                <a:off x="704880" y="5862600"/>
                <a:ext cx="2037960" cy="231840"/>
                <a:chOff x="704880" y="5862600"/>
                <a:chExt cx="2037960" cy="231840"/>
              </a:xfrm>
            </p:grpSpPr>
            <p:sp>
              <p:nvSpPr>
                <p:cNvPr id="59" name="Прямая соединительная линия 22"/>
                <p:cNvSpPr/>
                <p:nvPr/>
              </p:nvSpPr>
              <p:spPr>
                <a:xfrm>
                  <a:off x="704880" y="587844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Прямая соединительная линия 24"/>
                <p:cNvSpPr/>
                <p:nvPr/>
              </p:nvSpPr>
              <p:spPr>
                <a:xfrm>
                  <a:off x="1722600" y="587844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Прямая соединительная линия 25"/>
                <p:cNvSpPr/>
                <p:nvPr/>
              </p:nvSpPr>
              <p:spPr>
                <a:xfrm>
                  <a:off x="2742840" y="586260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Группа 6145"/>
            <p:cNvGrpSpPr/>
            <p:nvPr/>
          </p:nvGrpSpPr>
          <p:grpSpPr>
            <a:xfrm>
              <a:off x="705600" y="5457960"/>
              <a:ext cx="2045520" cy="977400"/>
              <a:chOff x="705600" y="5457960"/>
              <a:chExt cx="2045520" cy="977400"/>
            </a:xfrm>
          </p:grpSpPr>
          <p:sp>
            <p:nvSpPr>
              <p:cNvPr id="63" name="Дуга 29"/>
              <p:cNvSpPr/>
              <p:nvPr/>
            </p:nvSpPr>
            <p:spPr>
              <a:xfrm>
                <a:off x="718560" y="5702400"/>
                <a:ext cx="2032560" cy="628560"/>
              </a:xfrm>
              <a:custGeom>
                <a:avLst/>
                <a:gdLst/>
                <a:ahLst/>
                <a:rect l="l" t="t" r="r" b="b"/>
                <a:pathLst>
                  <a:path stroke="0" w="2030994" h="628759">
                    <a:moveTo>
                      <a:pt x="5999" y="280258"/>
                    </a:moveTo>
                    <a:cubicBezTo>
                      <a:pt x="62402" y="120326"/>
                      <a:pt x="499719" y="-615"/>
                      <a:pt x="1019390" y="1"/>
                    </a:cubicBezTo>
                    <a:cubicBezTo>
                      <a:pt x="1567198" y="651"/>
                      <a:pt x="2014603" y="135699"/>
                      <a:pt x="2030563" y="305219"/>
                    </a:cubicBezTo>
                    <a:lnTo>
                      <a:pt x="1015497" y="314380"/>
                    </a:lnTo>
                    <a:lnTo>
                      <a:pt x="5999" y="280258"/>
                    </a:lnTo>
                    <a:close/>
                  </a:path>
                  <a:path fill="none" w="2030994" h="628759">
                    <a:moveTo>
                      <a:pt x="5999" y="280258"/>
                    </a:moveTo>
                    <a:cubicBezTo>
                      <a:pt x="62402" y="120326"/>
                      <a:pt x="499719" y="-615"/>
                      <a:pt x="1019390" y="1"/>
                    </a:cubicBezTo>
                    <a:cubicBezTo>
                      <a:pt x="1567198" y="651"/>
                      <a:pt x="2014603" y="135699"/>
                      <a:pt x="2030563" y="3052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Дуга 31"/>
              <p:cNvSpPr/>
              <p:nvPr/>
            </p:nvSpPr>
            <p:spPr>
              <a:xfrm rot="10800000">
                <a:off x="705600" y="5702400"/>
                <a:ext cx="1008360" cy="479520"/>
              </a:xfrm>
              <a:custGeom>
                <a:avLst/>
                <a:gdLst/>
                <a:ahLst/>
                <a:rect l="l" t="t" r="r" b="b"/>
                <a:pathLst>
                  <a:path stroke="0" w="1007563" h="479508">
                    <a:moveTo>
                      <a:pt x="1540" y="221025"/>
                    </a:moveTo>
                    <a:cubicBezTo>
                      <a:pt x="22185" y="95641"/>
                      <a:pt x="242904" y="-840"/>
                      <a:pt x="507169" y="6"/>
                    </a:cubicBezTo>
                    <a:cubicBezTo>
                      <a:pt x="780355" y="880"/>
                      <a:pt x="1002295" y="105219"/>
                      <a:pt x="1007474" y="235210"/>
                    </a:cubicBezTo>
                    <a:lnTo>
                      <a:pt x="503782" y="239754"/>
                    </a:lnTo>
                    <a:lnTo>
                      <a:pt x="1540" y="221025"/>
                    </a:lnTo>
                    <a:close/>
                  </a:path>
                  <a:path fill="none" w="1007563" h="479508">
                    <a:moveTo>
                      <a:pt x="1540" y="221025"/>
                    </a:moveTo>
                    <a:cubicBezTo>
                      <a:pt x="22185" y="95641"/>
                      <a:pt x="242904" y="-840"/>
                      <a:pt x="507169" y="6"/>
                    </a:cubicBezTo>
                    <a:cubicBezTo>
                      <a:pt x="780355" y="880"/>
                      <a:pt x="1002295" y="105219"/>
                      <a:pt x="1007474" y="2352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TextBox 49"/>
              <p:cNvSpPr/>
              <p:nvPr/>
            </p:nvSpPr>
            <p:spPr>
              <a:xfrm>
                <a:off x="1578960" y="5457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TextBox 55"/>
              <p:cNvSpPr/>
              <p:nvPr/>
            </p:nvSpPr>
            <p:spPr>
              <a:xfrm>
                <a:off x="1074240" y="6128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Группа 6149"/>
          <p:cNvGrpSpPr/>
          <p:nvPr/>
        </p:nvGrpSpPr>
        <p:grpSpPr>
          <a:xfrm>
            <a:off x="3570120" y="5442120"/>
            <a:ext cx="2041560" cy="1061280"/>
            <a:chOff x="3570120" y="5442120"/>
            <a:chExt cx="2041560" cy="1061280"/>
          </a:xfrm>
        </p:grpSpPr>
        <p:sp>
          <p:nvSpPr>
            <p:cNvPr id="68" name="Дуга 40"/>
            <p:cNvSpPr/>
            <p:nvPr/>
          </p:nvSpPr>
          <p:spPr>
            <a:xfrm rot="10800000">
              <a:off x="3576240" y="5742000"/>
              <a:ext cx="1349280" cy="527040"/>
            </a:xfrm>
            <a:custGeom>
              <a:avLst/>
              <a:gdLst/>
              <a:ahLst/>
              <a:rect l="l" t="t" r="r" b="b"/>
              <a:pathLst>
                <a:path stroke="0" w="1349428" h="527117">
                  <a:moveTo>
                    <a:pt x="3054" y="238511"/>
                  </a:moveTo>
                  <a:cubicBezTo>
                    <a:pt x="36242" y="102714"/>
                    <a:pt x="329220" y="-750"/>
                    <a:pt x="678437" y="3"/>
                  </a:cubicBezTo>
                  <a:cubicBezTo>
                    <a:pt x="1043548" y="790"/>
                    <a:pt x="1340816" y="114886"/>
                    <a:pt x="1349248" y="257471"/>
                  </a:cubicBezTo>
                  <a:lnTo>
                    <a:pt x="674714" y="263559"/>
                  </a:lnTo>
                  <a:lnTo>
                    <a:pt x="3054" y="238511"/>
                  </a:lnTo>
                  <a:close/>
                </a:path>
                <a:path fill="none" w="1349428" h="527117">
                  <a:moveTo>
                    <a:pt x="3054" y="238511"/>
                  </a:moveTo>
                  <a:cubicBezTo>
                    <a:pt x="36242" y="102714"/>
                    <a:pt x="329220" y="-750"/>
                    <a:pt x="678437" y="3"/>
                  </a:cubicBezTo>
                  <a:cubicBezTo>
                    <a:pt x="1043548" y="790"/>
                    <a:pt x="1340816" y="114886"/>
                    <a:pt x="1349248" y="2574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Группа 6148"/>
            <p:cNvGrpSpPr/>
            <p:nvPr/>
          </p:nvGrpSpPr>
          <p:grpSpPr>
            <a:xfrm>
              <a:off x="3570120" y="5442120"/>
              <a:ext cx="2041560" cy="1061280"/>
              <a:chOff x="3570120" y="5442120"/>
              <a:chExt cx="2041560" cy="1061280"/>
            </a:xfrm>
          </p:grpSpPr>
          <p:sp>
            <p:nvSpPr>
              <p:cNvPr id="70" name="Дуга 51"/>
              <p:cNvSpPr/>
              <p:nvPr/>
            </p:nvSpPr>
            <p:spPr>
              <a:xfrm>
                <a:off x="3574800" y="5688000"/>
                <a:ext cx="2032200" cy="630360"/>
              </a:xfrm>
              <a:custGeom>
                <a:avLst/>
                <a:gdLst/>
                <a:ahLst/>
                <a:rect l="l" t="t" r="r" b="b"/>
                <a:pathLst>
                  <a:path stroke="0" w="2032080" h="630318">
                    <a:moveTo>
                      <a:pt x="5979" y="281019"/>
                    </a:moveTo>
                    <a:cubicBezTo>
                      <a:pt x="62313" y="120661"/>
                      <a:pt x="499910" y="-617"/>
                      <a:pt x="1019942" y="2"/>
                    </a:cubicBezTo>
                    <a:cubicBezTo>
                      <a:pt x="1568062" y="655"/>
                      <a:pt x="2015712" y="136047"/>
                      <a:pt x="2031650" y="305995"/>
                    </a:cubicBezTo>
                    <a:lnTo>
                      <a:pt x="1016040" y="315159"/>
                    </a:lnTo>
                    <a:lnTo>
                      <a:pt x="5979" y="281019"/>
                    </a:lnTo>
                    <a:close/>
                  </a:path>
                  <a:path fill="none" w="2032080" h="630318">
                    <a:moveTo>
                      <a:pt x="5979" y="281019"/>
                    </a:moveTo>
                    <a:cubicBezTo>
                      <a:pt x="62313" y="120661"/>
                      <a:pt x="499910" y="-617"/>
                      <a:pt x="1019942" y="2"/>
                    </a:cubicBezTo>
                    <a:cubicBezTo>
                      <a:pt x="1568062" y="655"/>
                      <a:pt x="2015712" y="136047"/>
                      <a:pt x="2031650" y="3059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Группа 6147"/>
              <p:cNvGrpSpPr/>
              <p:nvPr/>
            </p:nvGrpSpPr>
            <p:grpSpPr>
              <a:xfrm>
                <a:off x="3570120" y="5442120"/>
                <a:ext cx="2041560" cy="1061280"/>
                <a:chOff x="3570120" y="5442120"/>
                <a:chExt cx="2041560" cy="1061280"/>
              </a:xfrm>
            </p:grpSpPr>
            <p:grpSp>
              <p:nvGrpSpPr>
                <p:cNvPr id="72" name="Группа 34"/>
                <p:cNvGrpSpPr/>
                <p:nvPr/>
              </p:nvGrpSpPr>
              <p:grpSpPr>
                <a:xfrm>
                  <a:off x="3570120" y="5869080"/>
                  <a:ext cx="2041560" cy="231840"/>
                  <a:chOff x="3570120" y="5869080"/>
                  <a:chExt cx="2041560" cy="231840"/>
                </a:xfrm>
              </p:grpSpPr>
              <p:sp>
                <p:nvSpPr>
                  <p:cNvPr id="73" name="Прямая соединительная линия 35"/>
                  <p:cNvSpPr/>
                  <p:nvPr/>
                </p:nvSpPr>
                <p:spPr>
                  <a:xfrm>
                    <a:off x="3574800" y="5985000"/>
                    <a:ext cx="2036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" name="Группа 36"/>
                  <p:cNvGrpSpPr/>
                  <p:nvPr/>
                </p:nvGrpSpPr>
                <p:grpSpPr>
                  <a:xfrm>
                    <a:off x="3570120" y="5869080"/>
                    <a:ext cx="2036880" cy="231840"/>
                    <a:chOff x="3570120" y="5869080"/>
                    <a:chExt cx="2036880" cy="231840"/>
                  </a:xfrm>
                </p:grpSpPr>
                <p:sp>
                  <p:nvSpPr>
                    <p:cNvPr id="75" name="Прямая соединительная линия 37"/>
                    <p:cNvSpPr/>
                    <p:nvPr/>
                  </p:nvSpPr>
                  <p:spPr>
                    <a:xfrm>
                      <a:off x="3570120" y="588492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Прямая соединительная линия 38"/>
                    <p:cNvSpPr/>
                    <p:nvPr/>
                  </p:nvSpPr>
                  <p:spPr>
                    <a:xfrm>
                      <a:off x="4924440" y="587700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Прямая соединительная линия 39"/>
                    <p:cNvSpPr/>
                    <p:nvPr/>
                  </p:nvSpPr>
                  <p:spPr>
                    <a:xfrm>
                      <a:off x="5607000" y="586908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8" name="TextBox 56"/>
                <p:cNvSpPr/>
                <p:nvPr/>
              </p:nvSpPr>
              <p:spPr>
                <a:xfrm>
                  <a:off x="4441680" y="544212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TextBox 57"/>
                <p:cNvSpPr/>
                <p:nvPr/>
              </p:nvSpPr>
              <p:spPr>
                <a:xfrm>
                  <a:off x="4105080" y="619632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" name="Группа 6153"/>
          <p:cNvGrpSpPr/>
          <p:nvPr/>
        </p:nvGrpSpPr>
        <p:grpSpPr>
          <a:xfrm>
            <a:off x="6524640" y="5419800"/>
            <a:ext cx="1974960" cy="987480"/>
            <a:chOff x="6524640" y="5419800"/>
            <a:chExt cx="1974960" cy="987480"/>
          </a:xfrm>
        </p:grpSpPr>
        <p:sp>
          <p:nvSpPr>
            <p:cNvPr id="81" name="Дуга 41"/>
            <p:cNvSpPr/>
            <p:nvPr/>
          </p:nvSpPr>
          <p:spPr>
            <a:xfrm rot="10800000">
              <a:off x="6524640" y="5779800"/>
              <a:ext cx="1478160" cy="392040"/>
            </a:xfrm>
            <a:custGeom>
              <a:avLst/>
              <a:gdLst/>
              <a:ahLst/>
              <a:rect l="l" t="t" r="r" b="b"/>
              <a:pathLst>
                <a:path stroke="0" w="1533454" h="407717">
                  <a:moveTo>
                    <a:pt x="7432" y="175543"/>
                  </a:moveTo>
                  <a:cubicBezTo>
                    <a:pt x="60685" y="74592"/>
                    <a:pt x="386210" y="-382"/>
                    <a:pt x="769607" y="1"/>
                  </a:cubicBezTo>
                  <a:cubicBezTo>
                    <a:pt x="1181817" y="413"/>
                    <a:pt x="1519032" y="87407"/>
                    <a:pt x="1533013" y="196944"/>
                  </a:cubicBezTo>
                  <a:lnTo>
                    <a:pt x="766727" y="203859"/>
                  </a:lnTo>
                  <a:lnTo>
                    <a:pt x="7432" y="175543"/>
                  </a:lnTo>
                  <a:close/>
                </a:path>
                <a:path fill="none" w="1533454" h="407717">
                  <a:moveTo>
                    <a:pt x="7432" y="175543"/>
                  </a:moveTo>
                  <a:cubicBezTo>
                    <a:pt x="60685" y="74592"/>
                    <a:pt x="386210" y="-382"/>
                    <a:pt x="769607" y="1"/>
                  </a:cubicBezTo>
                  <a:cubicBezTo>
                    <a:pt x="1181817" y="413"/>
                    <a:pt x="1519032" y="87407"/>
                    <a:pt x="1533013" y="1969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Группа 6152"/>
            <p:cNvGrpSpPr/>
            <p:nvPr/>
          </p:nvGrpSpPr>
          <p:grpSpPr>
            <a:xfrm>
              <a:off x="6531480" y="5419800"/>
              <a:ext cx="1968120" cy="987480"/>
              <a:chOff x="6531480" y="5419800"/>
              <a:chExt cx="1968120" cy="987480"/>
            </a:xfrm>
          </p:grpSpPr>
          <p:grpSp>
            <p:nvGrpSpPr>
              <p:cNvPr id="83" name="Группа 6151"/>
              <p:cNvGrpSpPr/>
              <p:nvPr/>
            </p:nvGrpSpPr>
            <p:grpSpPr>
              <a:xfrm>
                <a:off x="6531480" y="5653800"/>
                <a:ext cx="1968120" cy="604800"/>
                <a:chOff x="6531480" y="5653800"/>
                <a:chExt cx="1968120" cy="604800"/>
              </a:xfrm>
            </p:grpSpPr>
            <p:grpSp>
              <p:nvGrpSpPr>
                <p:cNvPr id="84" name="Группа 43"/>
                <p:cNvGrpSpPr/>
                <p:nvPr/>
              </p:nvGrpSpPr>
              <p:grpSpPr>
                <a:xfrm>
                  <a:off x="6531480" y="5823360"/>
                  <a:ext cx="1968120" cy="223200"/>
                  <a:chOff x="6531480" y="5823360"/>
                  <a:chExt cx="1968120" cy="223200"/>
                </a:xfrm>
              </p:grpSpPr>
              <p:sp>
                <p:nvSpPr>
                  <p:cNvPr id="85" name="Прямая соединительная линия 44"/>
                  <p:cNvSpPr/>
                  <p:nvPr/>
                </p:nvSpPr>
                <p:spPr>
                  <a:xfrm>
                    <a:off x="6536160" y="5934960"/>
                    <a:ext cx="1963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" name="Группа 45"/>
                  <p:cNvGrpSpPr/>
                  <p:nvPr/>
                </p:nvGrpSpPr>
                <p:grpSpPr>
                  <a:xfrm>
                    <a:off x="6531480" y="5823360"/>
                    <a:ext cx="1963440" cy="223200"/>
                    <a:chOff x="6531480" y="5823360"/>
                    <a:chExt cx="1963440" cy="223200"/>
                  </a:xfrm>
                </p:grpSpPr>
                <p:sp>
                  <p:nvSpPr>
                    <p:cNvPr id="87" name="Прямая соединительная линия 46"/>
                    <p:cNvSpPr/>
                    <p:nvPr/>
                  </p:nvSpPr>
                  <p:spPr>
                    <a:xfrm>
                      <a:off x="6531480" y="583848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Прямая соединительная линия 47"/>
                    <p:cNvSpPr/>
                    <p:nvPr/>
                  </p:nvSpPr>
                  <p:spPr>
                    <a:xfrm>
                      <a:off x="8013960" y="582336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Прямая соединительная линия 48"/>
                    <p:cNvSpPr/>
                    <p:nvPr/>
                  </p:nvSpPr>
                  <p:spPr>
                    <a:xfrm>
                      <a:off x="8494920" y="582336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0" name="Дуга 52"/>
                <p:cNvSpPr/>
                <p:nvPr/>
              </p:nvSpPr>
              <p:spPr>
                <a:xfrm>
                  <a:off x="6538320" y="5653800"/>
                  <a:ext cx="1958040" cy="604800"/>
                </a:xfrm>
                <a:custGeom>
                  <a:avLst/>
                  <a:gdLst/>
                  <a:ahLst/>
                  <a:rect l="l" t="t" r="r" b="b"/>
                  <a:pathLst>
                    <a:path stroke="0" w="2030879" h="628909">
                      <a:moveTo>
                        <a:pt x="5995" y="280335"/>
                      </a:moveTo>
                      <a:cubicBezTo>
                        <a:pt x="62380" y="120361"/>
                        <a:pt x="499680" y="-615"/>
                        <a:pt x="1019334" y="2"/>
                      </a:cubicBezTo>
                      <a:cubicBezTo>
                        <a:pt x="1567114" y="652"/>
                        <a:pt x="2014495" y="135734"/>
                        <a:pt x="2030449" y="305296"/>
                      </a:cubicBezTo>
                      <a:lnTo>
                        <a:pt x="1015440" y="314455"/>
                      </a:lnTo>
                      <a:lnTo>
                        <a:pt x="5995" y="280335"/>
                      </a:lnTo>
                      <a:close/>
                    </a:path>
                    <a:path fill="none" w="2030879" h="628909">
                      <a:moveTo>
                        <a:pt x="5995" y="280335"/>
                      </a:moveTo>
                      <a:cubicBezTo>
                        <a:pt x="62380" y="120361"/>
                        <a:pt x="499680" y="-615"/>
                        <a:pt x="1019334" y="2"/>
                      </a:cubicBezTo>
                      <a:cubicBezTo>
                        <a:pt x="1567114" y="652"/>
                        <a:pt x="2014495" y="135734"/>
                        <a:pt x="2030449" y="30529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58"/>
              <p:cNvSpPr/>
              <p:nvPr/>
            </p:nvSpPr>
            <p:spPr>
              <a:xfrm>
                <a:off x="7343640" y="5419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TextBox 59"/>
              <p:cNvSpPr/>
              <p:nvPr/>
            </p:nvSpPr>
            <p:spPr>
              <a:xfrm>
                <a:off x="7106760" y="6100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Прямоугольник 62"/>
          <p:cNvSpPr/>
          <p:nvPr/>
        </p:nvSpPr>
        <p:spPr>
          <a:xfrm>
            <a:off x="890280" y="4889520"/>
            <a:ext cx="1570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тава – 2: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6143"/>
          <p:cNvSpPr/>
          <p:nvPr/>
        </p:nvSpPr>
        <p:spPr>
          <a:xfrm>
            <a:off x="3664440" y="4863960"/>
            <a:ext cx="1607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инта – 3: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6150"/>
          <p:cNvSpPr/>
          <p:nvPr/>
        </p:nvSpPr>
        <p:spPr>
          <a:xfrm>
            <a:off x="6670440" y="4871880"/>
            <a:ext cx="1584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рта – 4: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3394080" y="30240"/>
            <a:ext cx="570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греческий философ -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ифаг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3"/>
          <a:stretch/>
        </p:blipFill>
        <p:spPr>
          <a:xfrm>
            <a:off x="49320" y="31680"/>
            <a:ext cx="3520800" cy="244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3492360" y="62928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первых установил связь между музыкой и математи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6"/>
          <p:cNvSpPr/>
          <p:nvPr/>
        </p:nvSpPr>
        <p:spPr>
          <a:xfrm>
            <a:off x="2077920" y="743040"/>
            <a:ext cx="52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обозна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274760" y="1601640"/>
            <a:ext cx="320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вукоря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 но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тный ста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лине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9" descr=""/>
          <p:cNvPicPr/>
          <p:nvPr/>
        </p:nvPicPr>
        <p:blipFill>
          <a:blip r:embed="rId1"/>
          <a:stretch/>
        </p:blipFill>
        <p:spPr>
          <a:xfrm>
            <a:off x="108000" y="2556000"/>
            <a:ext cx="5424480" cy="1312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1"/>
          <p:cNvSpPr/>
          <p:nvPr/>
        </p:nvSpPr>
        <p:spPr>
          <a:xfrm>
            <a:off x="6488640" y="1601640"/>
            <a:ext cx="1677240" cy="30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Интервал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ма -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кунда - 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Терция - 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Кварта - 4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Квинта - 5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кста - 6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птима - 7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Октава -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3741840" y="4622760"/>
            <a:ext cx="17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пплика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467640" y="4064040"/>
            <a:ext cx="185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19" descr=""/>
          <p:cNvPicPr/>
          <p:nvPr/>
        </p:nvPicPr>
        <p:blipFill>
          <a:blip r:embed="rId2"/>
          <a:stretch/>
        </p:blipFill>
        <p:spPr>
          <a:xfrm>
            <a:off x="611280" y="5183280"/>
            <a:ext cx="1530360" cy="1420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3"/>
          <a:srcRect l="0" t="13311" r="0" b="0"/>
          <a:stretch/>
        </p:blipFill>
        <p:spPr>
          <a:xfrm>
            <a:off x="2482920" y="5078520"/>
            <a:ext cx="4238640" cy="1312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4"/>
          <a:stretch/>
        </p:blipFill>
        <p:spPr>
          <a:xfrm>
            <a:off x="6904080" y="5048280"/>
            <a:ext cx="2143080" cy="1604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395280" y="-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бщее в музыке и математи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-28440" y="1022400"/>
            <a:ext cx="37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эле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ы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5796000" y="952560"/>
            <a:ext cx="31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чисе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Изображение1" descr=""/>
          <p:cNvPicPr/>
          <p:nvPr/>
        </p:nvPicPr>
        <p:blipFill>
          <a:blip r:embed="rId1"/>
          <a:stretch/>
        </p:blipFill>
        <p:spPr>
          <a:xfrm>
            <a:off x="5972040" y="1631880"/>
            <a:ext cx="2521080" cy="2005200"/>
          </a:xfrm>
          <a:prstGeom prst="rect">
            <a:avLst/>
          </a:prstGeom>
          <a:ln w="0">
            <a:noFill/>
          </a:ln>
        </p:spPr>
      </p:pic>
      <p:pic>
        <p:nvPicPr>
          <p:cNvPr id="112" name="Изображение2" descr=""/>
          <p:cNvPicPr/>
          <p:nvPr/>
        </p:nvPicPr>
        <p:blipFill>
          <a:blip r:embed="rId2"/>
          <a:stretch/>
        </p:blipFill>
        <p:spPr>
          <a:xfrm>
            <a:off x="5975280" y="4172040"/>
            <a:ext cx="2521080" cy="20890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3"/>
          <p:cNvSpPr/>
          <p:nvPr/>
        </p:nvSpPr>
        <p:spPr>
          <a:xfrm>
            <a:off x="6373080" y="36370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а, кратные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6373080" y="635004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а, кратные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44600" y="3129120"/>
            <a:ext cx="3728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змер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з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ва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ри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16" descr=""/>
          <p:cNvPicPr/>
          <p:nvPr/>
        </p:nvPicPr>
        <p:blipFill>
          <a:blip r:embed="rId3"/>
          <a:stretch/>
        </p:blipFill>
        <p:spPr>
          <a:xfrm>
            <a:off x="2908440" y="1465200"/>
            <a:ext cx="1697040" cy="16257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8"/>
          <p:cNvSpPr/>
          <p:nvPr/>
        </p:nvSpPr>
        <p:spPr>
          <a:xfrm>
            <a:off x="1535040" y="26906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0" descr=""/>
          <p:cNvPicPr/>
          <p:nvPr/>
        </p:nvPicPr>
        <p:blipFill>
          <a:blip r:embed="rId4"/>
          <a:srcRect l="3238" t="0" r="6620" b="4563"/>
          <a:stretch/>
        </p:blipFill>
        <p:spPr>
          <a:xfrm>
            <a:off x="193680" y="3886200"/>
            <a:ext cx="1766880" cy="1962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1"/>
          <p:cNvSpPr/>
          <p:nvPr/>
        </p:nvSpPr>
        <p:spPr>
          <a:xfrm>
            <a:off x="2064240" y="521028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2"/>
          <p:cNvSpPr/>
          <p:nvPr/>
        </p:nvSpPr>
        <p:spPr>
          <a:xfrm>
            <a:off x="558000" y="5732640"/>
            <a:ext cx="375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зме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з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ва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3965040" y="222120"/>
            <a:ext cx="13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трелка: влево 5"/>
          <p:cNvSpPr/>
          <p:nvPr/>
        </p:nvSpPr>
        <p:spPr>
          <a:xfrm rot="20296800">
            <a:off x="2874960" y="825120"/>
            <a:ext cx="1152360" cy="71280"/>
          </a:xfrm>
          <a:prstGeom prst="leftArrow">
            <a:avLst>
              <a:gd name="adj1" fmla="val 50000"/>
              <a:gd name="adj2" fmla="val 4969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: влево 19"/>
          <p:cNvSpPr/>
          <p:nvPr/>
        </p:nvSpPr>
        <p:spPr>
          <a:xfrm rot="12583200">
            <a:off x="5271840" y="878040"/>
            <a:ext cx="1154160" cy="71280"/>
          </a:xfrm>
          <a:prstGeom prst="leftArrow">
            <a:avLst>
              <a:gd name="adj1" fmla="val 50000"/>
              <a:gd name="adj2" fmla="val 49775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438120" y="531720"/>
            <a:ext cx="44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противоположносте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ыке и матема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8520" y="1549440"/>
          <a:ext cx="5040360" cy="3595680"/>
        </p:xfrm>
        <a:graphic>
          <a:graphicData uri="http://schemas.openxmlformats.org/drawingml/2006/table">
            <a:tbl>
              <a:tblPr/>
              <a:tblGrid>
                <a:gridCol w="2644920"/>
                <a:gridCol w="2395440"/>
              </a:tblGrid>
              <a:tr h="711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жор – мин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– медле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о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громко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звук - высокий зву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моль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нижение)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з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выш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минус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-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меньш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 – вычит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ожение – д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ное число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четное чис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1"/>
          <p:cNvSpPr/>
          <p:nvPr/>
        </p:nvSpPr>
        <p:spPr>
          <a:xfrm>
            <a:off x="5345280" y="53496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и и д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ематике и музы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Изображение3" descr=""/>
          <p:cNvPicPr/>
          <p:nvPr/>
        </p:nvPicPr>
        <p:blipFill>
          <a:blip r:embed="rId1"/>
          <a:stretch/>
        </p:blipFill>
        <p:spPr>
          <a:xfrm>
            <a:off x="5345280" y="1547640"/>
            <a:ext cx="844560" cy="359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Изображение3" descr=""/>
          <p:cNvPicPr/>
          <p:nvPr/>
        </p:nvPicPr>
        <p:blipFill>
          <a:blip r:embed="rId2"/>
          <a:stretch/>
        </p:blipFill>
        <p:spPr>
          <a:xfrm>
            <a:off x="7821720" y="1558800"/>
            <a:ext cx="1150920" cy="359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Прямоугольник 2"/>
          <p:cNvSpPr/>
          <p:nvPr/>
        </p:nvSpPr>
        <p:spPr>
          <a:xfrm>
            <a:off x="6321240" y="17845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ая 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89840" y="2568600"/>
            <a:ext cx="16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6194520" y="3483000"/>
            <a:ext cx="15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6221520" y="4510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ьмая 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0"/>
          <p:cNvSpPr/>
          <p:nvPr/>
        </p:nvSpPr>
        <p:spPr>
          <a:xfrm>
            <a:off x="6189840" y="1539720"/>
            <a:ext cx="169524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390600" y="5427720"/>
            <a:ext cx="83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ные совпадения подтверждаю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между музыкой и математикой есть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7"/>
          <p:cNvSpPr/>
          <p:nvPr/>
        </p:nvSpPr>
        <p:spPr>
          <a:xfrm>
            <a:off x="6114960" y="5148360"/>
            <a:ext cx="16938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539640" y="-184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13" descr=""/>
          <p:cNvPicPr/>
          <p:nvPr/>
        </p:nvPicPr>
        <p:blipFill>
          <a:blip r:embed="rId1"/>
          <a:srcRect l="4732" t="12500" r="2928" b="10223"/>
          <a:stretch/>
        </p:blipFill>
        <p:spPr>
          <a:xfrm>
            <a:off x="3313080" y="631800"/>
            <a:ext cx="4689360" cy="776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303120" y="118404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анк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ли у респондентов даты рождения и их интере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ожили даты рождения на н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грали получившиеся мелод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нлайн-пианино и на фортепиа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 Предположили, что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161200" y="158760"/>
          <a:ext cx="803520" cy="4156200"/>
        </p:xfrm>
        <a:graphic>
          <a:graphicData uri="http://schemas.openxmlformats.org/drawingml/2006/table">
            <a:tbl>
              <a:tblPr/>
              <a:tblGrid>
                <a:gridCol w="360360"/>
                <a:gridCol w="443160"/>
              </a:tblGrid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ик 8"/>
          <p:cNvSpPr/>
          <p:nvPr/>
        </p:nvSpPr>
        <p:spPr>
          <a:xfrm>
            <a:off x="6442200" y="2778120"/>
            <a:ext cx="1520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д р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16"/>
          <p:cNvSpPr/>
          <p:nvPr/>
        </p:nvSpPr>
        <p:spPr>
          <a:xfrm>
            <a:off x="702720" y="69696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892760" y="1863720"/>
          <a:ext cx="3122640" cy="609480"/>
        </p:xfrm>
        <a:graphic>
          <a:graphicData uri="http://schemas.openxmlformats.org/drawingml/2006/table">
            <a:tbl>
              <a:tblPr/>
              <a:tblGrid>
                <a:gridCol w="344520"/>
                <a:gridCol w="396720"/>
                <a:gridCol w="397080"/>
                <a:gridCol w="396720"/>
                <a:gridCol w="396720"/>
                <a:gridCol w="397080"/>
                <a:gridCol w="396720"/>
                <a:gridCol w="39708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Прямоугольник 6"/>
          <p:cNvSpPr/>
          <p:nvPr/>
        </p:nvSpPr>
        <p:spPr>
          <a:xfrm>
            <a:off x="4909320" y="27716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5652360" y="27716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 flipH="1" rot="16200000">
            <a:off x="5136120" y="2283480"/>
            <a:ext cx="196920" cy="620640"/>
          </a:xfrm>
          <a:custGeom>
            <a:avLst/>
            <a:gdLst>
              <a:gd name="textAreaLeft" fmla="*/ 0 w 196920"/>
              <a:gd name="textAreaRight" fmla="*/ 70920 w 196920"/>
              <a:gd name="textAreaTop" fmla="*/ 17640 h 620640"/>
              <a:gd name="textAreaBottom" fmla="*/ 60300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1"/>
                  <a:pt x="10800" y="1962"/>
                </a:cubicBezTo>
                <a:lnTo>
                  <a:pt x="10800" y="8838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1"/>
                  <a:pt x="10800" y="12762"/>
                </a:cubicBezTo>
                <a:lnTo>
                  <a:pt x="10800" y="19638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 flipH="1" rot="16200000">
            <a:off x="5872680" y="2302560"/>
            <a:ext cx="196920" cy="620640"/>
          </a:xfrm>
          <a:custGeom>
            <a:avLst/>
            <a:gdLst>
              <a:gd name="textAreaLeft" fmla="*/ 0 w 196920"/>
              <a:gd name="textAreaRight" fmla="*/ 70920 w 196920"/>
              <a:gd name="textAreaTop" fmla="*/ 17640 h 620640"/>
              <a:gd name="textAreaBottom" fmla="*/ 60300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1"/>
                  <a:pt x="10800" y="1962"/>
                </a:cubicBezTo>
                <a:lnTo>
                  <a:pt x="10800" y="8838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1"/>
                  <a:pt x="10800" y="12762"/>
                </a:cubicBezTo>
                <a:lnTo>
                  <a:pt x="10800" y="19638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 flipH="1" rot="16200000">
            <a:off x="7090560" y="1880280"/>
            <a:ext cx="293760" cy="1562400"/>
          </a:xfrm>
          <a:custGeom>
            <a:avLst/>
            <a:gdLst>
              <a:gd name="textAreaLeft" fmla="*/ 360 w 293760"/>
              <a:gd name="textAreaRight" fmla="*/ 106560 w 293760"/>
              <a:gd name="textAreaTop" fmla="*/ 26280 h 1562400"/>
              <a:gd name="textAreaBottom" fmla="*/ 1536120 h 156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2"/>
                  <a:pt x="10800" y="1163"/>
                </a:cubicBezTo>
                <a:lnTo>
                  <a:pt x="10800" y="9637"/>
                </a:lnTo>
                <a:cubicBezTo>
                  <a:pt x="10800" y="10219"/>
                  <a:pt x="16200" y="10800"/>
                  <a:pt x="21600" y="10800"/>
                </a:cubicBezTo>
                <a:cubicBezTo>
                  <a:pt x="16200" y="10800"/>
                  <a:pt x="10800" y="11382"/>
                  <a:pt x="10800" y="11963"/>
                </a:cubicBezTo>
                <a:lnTo>
                  <a:pt x="10800" y="20437"/>
                </a:lnTo>
                <a:cubicBezTo>
                  <a:pt x="10800" y="210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11080" y="3471840"/>
          <a:ext cx="6840720" cy="2309760"/>
        </p:xfrm>
        <a:graphic>
          <a:graphicData uri="http://schemas.openxmlformats.org/drawingml/2006/table">
            <a:tbl>
              <a:tblPr/>
              <a:tblGrid>
                <a:gridCol w="1414440"/>
                <a:gridCol w="1641600"/>
                <a:gridCol w="1498680"/>
                <a:gridCol w="2286000"/>
              </a:tblGrid>
              <a:tr h="104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ни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монич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творческой направленности, есть способности к музы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ни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ятно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слу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имеет скло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точным наукам, спор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9" name="Рисунок 7" descr=""/>
          <p:cNvPicPr/>
          <p:nvPr/>
        </p:nvPicPr>
        <p:blipFill>
          <a:blip r:embed="rId2"/>
          <a:stretch/>
        </p:blipFill>
        <p:spPr>
          <a:xfrm>
            <a:off x="3914640" y="3529080"/>
            <a:ext cx="1314720" cy="9604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"/>
          <p:cNvPicPr/>
          <p:nvPr/>
        </p:nvPicPr>
        <p:blipFill>
          <a:blip r:embed="rId3"/>
          <a:stretch/>
        </p:blipFill>
        <p:spPr>
          <a:xfrm>
            <a:off x="3867120" y="4645080"/>
            <a:ext cx="1459080" cy="97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271440" y="5961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рили, используя несколько способов, наличие связи между числами и музы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539640" y="3002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2920" y="108000"/>
          <a:ext cx="8858160" cy="3362400"/>
        </p:xfrm>
        <a:graphic>
          <a:graphicData uri="http://schemas.openxmlformats.org/drawingml/2006/table">
            <a:tbl>
              <a:tblPr/>
              <a:tblGrid>
                <a:gridCol w="2881440"/>
                <a:gridCol w="3636720"/>
                <a:gridCol w="2340000"/>
              </a:tblGrid>
              <a:tr h="336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пособ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грали ранее составленные мелодии по датам рождения учител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рослушали», как они звучат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ли, что практически все даты рождения звучат красиво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онан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а это значит все из респондентов имеют способности к музы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ывод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Результаты этого способа вызывают сом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4" name="Рисунок 4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1710000" cy="22273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"/>
          <p:cNvPicPr/>
          <p:nvPr/>
        </p:nvPicPr>
        <p:blipFill>
          <a:blip r:embed="rId2"/>
          <a:stretch/>
        </p:blipFill>
        <p:spPr>
          <a:xfrm>
            <a:off x="328680" y="2560680"/>
            <a:ext cx="26478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42920" y="3470400"/>
          <a:ext cx="8858160" cy="3363840"/>
        </p:xfrm>
        <a:graphic>
          <a:graphicData uri="http://schemas.openxmlformats.org/drawingml/2006/table">
            <a:tbl>
              <a:tblPr/>
              <a:tblGrid>
                <a:gridCol w="2881440"/>
                <a:gridCol w="3636720"/>
                <a:gridCol w="2340000"/>
              </a:tblGrid>
              <a:tr h="336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пособ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или звучание всех нот даты рождения одномоментно (в виде аккорда)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ли, что даты рождения учителей практически все звучат негармонично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со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ывод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се участники анкетирования имеют склонности к точным наукам, а вот среди учителей музыки не один не обладает музыкальными способностями. Такого быть не може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7" name="Рисунок 2" descr=""/>
          <p:cNvPicPr/>
          <p:nvPr/>
        </p:nvPicPr>
        <p:blipFill>
          <a:blip r:embed="rId3"/>
          <a:stretch/>
        </p:blipFill>
        <p:spPr>
          <a:xfrm>
            <a:off x="1201680" y="3562200"/>
            <a:ext cx="1763640" cy="2148120"/>
          </a:xfrm>
          <a:prstGeom prst="rect">
            <a:avLst/>
          </a:prstGeom>
          <a:ln w="0">
            <a:noFill/>
          </a:ln>
        </p:spPr>
      </p:pic>
      <p:pic>
        <p:nvPicPr>
          <p:cNvPr id="158" name="Группа 11" descr=""/>
          <p:cNvPicPr/>
          <p:nvPr/>
        </p:nvPicPr>
        <p:blipFill>
          <a:blip r:embed="rId4"/>
          <a:stretch/>
        </p:blipFill>
        <p:spPr>
          <a:xfrm>
            <a:off x="1079640" y="5851440"/>
            <a:ext cx="115092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1853280" y="2030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пособ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82440" y="709560"/>
            <a:ext cx="56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алили первые 2 цифры из года рождения. В каждой дате рождения получилось 6 циф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лучившихся мелодиях проанализировали интерва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делали выв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ились, что если диссонансных интервал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 и боле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дате рождения, то это характерно для людей с тягой к точным наукам или спорту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менее двух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ля людей с музыкальными способност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186600" y="266760"/>
          <a:ext cx="2644560" cy="885600"/>
        </p:xfrm>
        <a:graphic>
          <a:graphicData uri="http://schemas.openxmlformats.org/drawingml/2006/table">
            <a:tbl>
              <a:tblPr/>
              <a:tblGrid>
                <a:gridCol w="431640"/>
                <a:gridCol w="409680"/>
                <a:gridCol w="450720"/>
                <a:gridCol w="451080"/>
                <a:gridCol w="450720"/>
                <a:gridCol w="450720"/>
              </a:tblGrid>
              <a:tr h="640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5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19"/>
          <p:cNvSpPr/>
          <p:nvPr/>
        </p:nvSpPr>
        <p:spPr>
          <a:xfrm>
            <a:off x="6213600" y="1413000"/>
            <a:ext cx="7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0"/>
          <p:cNvSpPr/>
          <p:nvPr/>
        </p:nvSpPr>
        <p:spPr>
          <a:xfrm>
            <a:off x="7027920" y="14130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 flipH="1" rot="16200000">
            <a:off x="6512760" y="1096200"/>
            <a:ext cx="147600" cy="504720"/>
          </a:xfrm>
          <a:custGeom>
            <a:avLst/>
            <a:gdLst>
              <a:gd name="textAreaLeft" fmla="*/ 0 w 147600"/>
              <a:gd name="textAreaRight" fmla="*/ 53280 w 1476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 flipH="1" rot="16200000">
            <a:off x="7338240" y="1092960"/>
            <a:ext cx="147600" cy="504720"/>
          </a:xfrm>
          <a:custGeom>
            <a:avLst/>
            <a:gdLst>
              <a:gd name="textAreaLeft" fmla="*/ 0 w 147600"/>
              <a:gd name="textAreaRight" fmla="*/ 53280 w 1476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H="1" rot="16200000">
            <a:off x="8323920" y="905040"/>
            <a:ext cx="160200" cy="896760"/>
          </a:xfrm>
          <a:custGeom>
            <a:avLst/>
            <a:gdLst>
              <a:gd name="textAreaLeft" fmla="*/ 0 w 160200"/>
              <a:gd name="textAreaRight" fmla="*/ 57960 w 160200"/>
              <a:gd name="textAreaTop" fmla="*/ 14040 h 896760"/>
              <a:gd name="textAreaBottom" fmla="*/ 882720 h 89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2"/>
                  <a:pt x="10800" y="1103"/>
                </a:cubicBezTo>
                <a:lnTo>
                  <a:pt x="10800" y="9697"/>
                </a:lnTo>
                <a:cubicBezTo>
                  <a:pt x="10800" y="10249"/>
                  <a:pt x="16200" y="10800"/>
                  <a:pt x="21600" y="10800"/>
                </a:cubicBezTo>
                <a:cubicBezTo>
                  <a:pt x="16200" y="10800"/>
                  <a:pt x="10800" y="11352"/>
                  <a:pt x="10800" y="11903"/>
                </a:cubicBezTo>
                <a:lnTo>
                  <a:pt x="10800" y="20497"/>
                </a:lnTo>
                <a:cubicBezTo>
                  <a:pt x="10800" y="2104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20"/>
          <p:cNvSpPr/>
          <p:nvPr/>
        </p:nvSpPr>
        <p:spPr>
          <a:xfrm>
            <a:off x="7777080" y="142560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д р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20"/>
          <p:cNvSpPr/>
          <p:nvPr/>
        </p:nvSpPr>
        <p:spPr>
          <a:xfrm>
            <a:off x="6240600" y="2222640"/>
            <a:ext cx="25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-7-2-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86280" y="2897280"/>
          <a:ext cx="3313440" cy="2378160"/>
        </p:xfrm>
        <a:graphic>
          <a:graphicData uri="http://schemas.openxmlformats.org/drawingml/2006/table">
            <a:tbl>
              <a:tblPr/>
              <a:tblGrid>
                <a:gridCol w="1609920"/>
                <a:gridCol w="1703520"/>
              </a:tblGrid>
              <a:tr h="1095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узыке – это расстояние между двумя звук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т благозву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т резко, напряже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4-5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Прямоугольник 20"/>
          <p:cNvSpPr/>
          <p:nvPr/>
        </p:nvSpPr>
        <p:spPr>
          <a:xfrm>
            <a:off x="6234120" y="5583240"/>
            <a:ext cx="25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-7-2-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 2"/>
          <p:cNvSpPr/>
          <p:nvPr/>
        </p:nvSpPr>
        <p:spPr>
          <a:xfrm>
            <a:off x="7027920" y="5675400"/>
            <a:ext cx="338040" cy="3380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7085160" y="6199200"/>
            <a:ext cx="519120" cy="152280"/>
          </a:xfrm>
          <a:prstGeom prst="rect">
            <a:avLst/>
          </a:prstGeom>
          <a:ln w="0">
            <a:noFill/>
          </a:ln>
        </p:spPr>
      </p:pic>
      <p:sp>
        <p:nvSpPr>
          <p:cNvPr id="173" name="Овал 42"/>
          <p:cNvSpPr/>
          <p:nvPr/>
        </p:nvSpPr>
        <p:spPr>
          <a:xfrm>
            <a:off x="7345440" y="5675400"/>
            <a:ext cx="338040" cy="3380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9"/>
          <p:cNvSpPr/>
          <p:nvPr/>
        </p:nvSpPr>
        <p:spPr>
          <a:xfrm>
            <a:off x="7188120" y="6319800"/>
            <a:ext cx="3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Михаил</cp:lastModifiedBy>
  <dcterms:modified xsi:type="dcterms:W3CDTF">2020-01-30T09:38:33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